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996-B6A7-44B7-95BC-D030374F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A36-76EA-4566-AAC0-3FFF7F65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B12-5EAE-4175-9331-5FC574C5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206-1867-431E-BA26-A108D33E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3EE-D59B-4BB0-B829-9ABC483A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067B-F9D5-439D-8195-C01970F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E85-A4FE-4FAF-A308-BD6185E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B40-2760-44E4-8C6B-A919F139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201-64D0-47F3-9819-27C43586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3B1-FF85-4A28-95CE-25A7F3EE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DA1-28BE-4E23-A840-28ED52E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973-9E50-4862-B738-5B283B3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762600-5629-48A6-BB4D-8548B6D27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6120" y="1214280"/>
            <a:ext cx="42451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емы формирования смыслового чтения у обучающихся с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71880" y="3785760"/>
            <a:ext cx="52768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БОУ школа-интернат им. И.Е.Егор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терова М.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ношилина О.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о. Новокуйбышевс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Ольга\Desktop\для през смысл чтения\верите ли вы.jpg"/>
          <p:cNvPicPr/>
          <p:nvPr/>
        </p:nvPicPr>
        <p:blipFill>
          <a:blip r:embed="rId1"/>
          <a:stretch/>
        </p:blipFill>
        <p:spPr>
          <a:xfrm>
            <a:off x="1042920" y="404640"/>
            <a:ext cx="7297920" cy="5472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627280" y="6021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Презентация шаблон в прилож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Прием: Синквей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Ольга\Desktop\для през смысл чтения\синквейн.jpeg"/>
          <p:cNvPicPr/>
          <p:nvPr/>
        </p:nvPicPr>
        <p:blipFill>
          <a:blip r:embed="rId1"/>
          <a:stretch/>
        </p:blipFill>
        <p:spPr>
          <a:xfrm>
            <a:off x="1403280" y="40464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Ольга\Desktop\для през смысл чтения\синквейн дети.jpg"/>
          <p:cNvPicPr/>
          <p:nvPr/>
        </p:nvPicPr>
        <p:blipFill>
          <a:blip r:embed="rId1"/>
          <a:stretch/>
        </p:blipFill>
        <p:spPr>
          <a:xfrm>
            <a:off x="395280" y="333360"/>
            <a:ext cx="4514760" cy="3382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5219640" y="1700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364000" y="4005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826920" y="4076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Тай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219640" y="220500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Закончено, красив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Поможет написать и объясн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Без предложений мы ник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Ведь –это мысл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116000" y="450864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Красивая, непроходим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Раскинулась, растет, зелене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Много хвойных деревье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Лес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5219640" y="4653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Талантливый, извест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Пишет, сочиняет, твор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Великий русский поэ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Писа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Чтение с пометками.</a:t>
            </a:r>
            <a:br>
              <a:rPr sz="4400"/>
            </a:br>
            <a:r>
              <a:rPr b="0" lang="en-US" sz="4400" spc="-1" strike="noStrike">
                <a:solidFill>
                  <a:srgbClr val="22228b"/>
                </a:solidFill>
                <a:latin typeface="Arial"/>
              </a:rPr>
              <a:t>IN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Ольга\Desktop\для през смысл чтения\инсерт таблица.jpg"/>
          <p:cNvPicPr/>
          <p:nvPr/>
        </p:nvPicPr>
        <p:blipFill>
          <a:blip r:embed="rId1"/>
          <a:stretch/>
        </p:blipFill>
        <p:spPr>
          <a:xfrm>
            <a:off x="468360" y="1773360"/>
            <a:ext cx="79819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523880" y="2560680"/>
          <a:ext cx="6096240" cy="2925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Знаю 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Не знаю —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Великий поэт Х</a:t>
                      </a:r>
                      <a:r>
                        <a:rPr b="0" lang="en-US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Х 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Писал пье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Автор сказ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Любил веселиться, имел много друз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Любовная лир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Осуждал действия цар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Rectangle 1"/>
          <p:cNvSpPr/>
          <p:nvPr/>
        </p:nvSpPr>
        <p:spPr>
          <a:xfrm>
            <a:off x="755640" y="222120"/>
            <a:ext cx="7632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22228b"/>
                </a:solidFill>
                <a:latin typeface="PT Sans"/>
              </a:rPr>
              <a:t>Литература</a:t>
            </a:r>
            <a:r>
              <a:rPr b="1" lang="ru-RU" sz="2400" spc="-1" strike="noStrike">
                <a:solidFill>
                  <a:srgbClr val="22228b"/>
                </a:solidFill>
                <a:latin typeface="PT San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PT Sans"/>
              </a:rPr>
              <a:t>На уроках чтения в 1</a:t>
            </a:r>
            <a:r>
              <a:rPr b="0" lang="en-GB" sz="2400" spc="-1" strike="noStrike">
                <a:solidFill>
                  <a:srgbClr val="22228b"/>
                </a:solidFill>
                <a:latin typeface="Arial"/>
              </a:rPr>
              <a:t>–</a:t>
            </a:r>
            <a:r>
              <a:rPr b="0" lang="en-GB" sz="2400" spc="-1" strike="noStrike">
                <a:solidFill>
                  <a:srgbClr val="22228b"/>
                </a:solidFill>
                <a:latin typeface="PT Sans"/>
              </a:rPr>
              <a:t>4 классах приём эффективного чтения позволяет прочно усвоить факты биографии писател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22228b"/>
                </a:solidFill>
                <a:latin typeface="PT Sans"/>
              </a:rPr>
              <a:t>Например, творчества Пушки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187560"/>
            <a:ext cx="8075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714240" y="357120"/>
            <a:ext cx="792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Первоклассники при изучении темы «Народные сказки» могут заполнять ИНСЕРТ-таблицу картинками. Например, сказку «Репка» дети с лёгкостью перескажут, глядя на изобра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" descr="C:\Users\Ольга\Desktop\для през смысл чтения\репка.jpg"/>
          <p:cNvPicPr/>
          <p:nvPr/>
        </p:nvPicPr>
        <p:blipFill>
          <a:blip r:embed="rId1"/>
          <a:stretch/>
        </p:blipFill>
        <p:spPr>
          <a:xfrm>
            <a:off x="2556000" y="1484280"/>
            <a:ext cx="4389480" cy="33987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2124000" y="5157720"/>
            <a:ext cx="60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Для реализации приёма при чтении сказки «Репка» можно использовать готовый набор картинок или дать задание детям нарисовать подходящие иллюстрации по текс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18240"/>
            <a:ext cx="822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714680" y="1428840"/>
          <a:ext cx="6911640" cy="4703760"/>
        </p:xfrm>
        <a:graphic>
          <a:graphicData uri="http://schemas.openxmlformats.org/drawingml/2006/table">
            <a:tbl>
              <a:tblPr/>
              <a:tblGrid>
                <a:gridCol w="2303280"/>
                <a:gridCol w="2305080"/>
                <a:gridCol w="2303280"/>
              </a:tblGrid>
              <a:tr h="348840"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Не 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Интересуюс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255680"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Называет имя челове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Местоимения не выделя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Местоимение и существительное рядом выделяются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50520"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Выделяется на письме запятыми (в начале, в конце, в середине предложе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Для усиления используется восклицательный зна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2228b"/>
                          </a:solidFill>
                          <a:latin typeface="Arial"/>
                        </a:rPr>
                        <a:t>Другие знаки препинания применяются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48720"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2228b"/>
                          </a:solidFill>
                          <a:latin typeface="PT Sans"/>
                        </a:rPr>
                        <a:t>Не подчёркиваются, так как не являются членами пред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800" rIns="7380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2228b"/>
                          </a:solidFill>
                          <a:latin typeface="PT Sans"/>
                        </a:rPr>
                        <a:t>В одном предложении может быть несколько обраще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3800" marR="73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800" rIns="73800" tIns="37080" bIns="37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73800" marR="73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6" name="Rectangle 1"/>
          <p:cNvSpPr/>
          <p:nvPr/>
        </p:nvSpPr>
        <p:spPr>
          <a:xfrm>
            <a:off x="468360" y="263880"/>
            <a:ext cx="794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22228b"/>
                </a:solidFill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22228b"/>
                </a:solidFill>
                <a:latin typeface="Arial"/>
              </a:rPr>
              <a:t>ИНСЕРТ 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22228b"/>
                </a:solidFill>
                <a:latin typeface="Arial"/>
              </a:rPr>
              <a:t>тем</a:t>
            </a: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а: </a:t>
            </a:r>
            <a:r>
              <a:rPr b="0" lang="en-GB" sz="2000" spc="-1" strike="noStrike">
                <a:solidFill>
                  <a:srgbClr val="22228b"/>
                </a:solidFill>
                <a:latin typeface="Arial"/>
              </a:rPr>
              <a:t>«Знаки препинания при обращениях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«Корзина ид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C:\Users\Ольга\Desktop\для през смысл чтения\корзина идей.jpg"/>
          <p:cNvPicPr/>
          <p:nvPr/>
        </p:nvPicPr>
        <p:blipFill>
          <a:blip r:embed="rId1"/>
          <a:stretch/>
        </p:blipFill>
        <p:spPr>
          <a:xfrm>
            <a:off x="2484360" y="2781360"/>
            <a:ext cx="5313600" cy="3618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1643040" y="1214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В «корзину» идей можно «сбрасывать» факты, мнения, имена, проблемы, понятия, имеющие отношения к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«Корзина идей» </a:t>
            </a:r>
            <a:br>
              <a:rPr sz="4400"/>
            </a:b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 мастер кла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4714920" y="60721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Рефлекс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Users\Ольга\Desktop\для през смысл чтения\челов с плакатом.jpg"/>
          <p:cNvPicPr/>
          <p:nvPr/>
        </p:nvPicPr>
        <p:blipFill>
          <a:blip r:embed="rId1"/>
          <a:stretch/>
        </p:blipFill>
        <p:spPr>
          <a:xfrm>
            <a:off x="2643120" y="1571760"/>
            <a:ext cx="4373640" cy="43732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3857760" y="3357720"/>
            <a:ext cx="244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22228b"/>
                </a:solidFill>
                <a:latin typeface="Arial"/>
              </a:rPr>
              <a:t>Смысловое чтение- э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82692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2228b"/>
                </a:solidFill>
                <a:latin typeface="Arial"/>
              </a:rPr>
              <a:t>Удачи в работ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C:\Users\Ольга\Desktop\для през смысл чтения\челов класс.jpg"/>
          <p:cNvPicPr/>
          <p:nvPr/>
        </p:nvPicPr>
        <p:blipFill>
          <a:blip r:embed="rId1"/>
          <a:stretch/>
        </p:blipFill>
        <p:spPr>
          <a:xfrm>
            <a:off x="5219640" y="2205000"/>
            <a:ext cx="2924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19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2228b"/>
                </a:solidFill>
                <a:latin typeface="Arial"/>
              </a:rPr>
              <a:t>Смысловое чтение</a:t>
            </a: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262699"/>
                </a:solidFill>
                <a:latin typeface="Arial"/>
              </a:rPr>
              <a:t>это такое качество чтения, при котором достигается понимание информационной, смысловой и идейной сторон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Ольга\Desktop\Downloads\смыслов чтен.jpg"/>
          <p:cNvPicPr/>
          <p:nvPr/>
        </p:nvPicPr>
        <p:blipFill>
          <a:blip r:embed="rId1"/>
          <a:stretch/>
        </p:blipFill>
        <p:spPr>
          <a:xfrm>
            <a:off x="1547640" y="1484280"/>
            <a:ext cx="6696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блако 2"/>
          <p:cNvSpPr/>
          <p:nvPr/>
        </p:nvSpPr>
        <p:spPr>
          <a:xfrm>
            <a:off x="468360" y="404640"/>
            <a:ext cx="1871640" cy="9367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ение в круж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Облако 3"/>
          <p:cNvSpPr/>
          <p:nvPr/>
        </p:nvSpPr>
        <p:spPr>
          <a:xfrm>
            <a:off x="250920" y="1557360"/>
            <a:ext cx="2736720" cy="17287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ение про себя с вопрос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блако 4"/>
          <p:cNvSpPr/>
          <p:nvPr/>
        </p:nvSpPr>
        <p:spPr>
          <a:xfrm>
            <a:off x="395280" y="3573360"/>
            <a:ext cx="2808360" cy="122400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ение с останов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Облако 5"/>
          <p:cNvSpPr/>
          <p:nvPr/>
        </p:nvSpPr>
        <p:spPr>
          <a:xfrm>
            <a:off x="2843280" y="549360"/>
            <a:ext cx="3600360" cy="9367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ссоциативный ку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Облако 6"/>
          <p:cNvSpPr/>
          <p:nvPr/>
        </p:nvSpPr>
        <p:spPr>
          <a:xfrm>
            <a:off x="5435640" y="836640"/>
            <a:ext cx="3529080" cy="122400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в парах-обобщение в па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Облако 7"/>
          <p:cNvSpPr/>
          <p:nvPr/>
        </p:nvSpPr>
        <p:spPr>
          <a:xfrm>
            <a:off x="3132000" y="2060640"/>
            <a:ext cx="2808360" cy="9367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таем и спрашива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Облако 8"/>
          <p:cNvSpPr/>
          <p:nvPr/>
        </p:nvSpPr>
        <p:spPr>
          <a:xfrm>
            <a:off x="3276720" y="3213000"/>
            <a:ext cx="2340000" cy="936720"/>
          </a:xfrm>
          <a:prstGeom prst="pie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ение с помет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Облако 9"/>
          <p:cNvSpPr/>
          <p:nvPr/>
        </p:nvSpPr>
        <p:spPr>
          <a:xfrm>
            <a:off x="6372360" y="3789360"/>
            <a:ext cx="2376360" cy="863640"/>
          </a:xfrm>
          <a:custGeom>
            <a:avLst/>
            <a:gdLst>
              <a:gd name="textAreaLeft" fmla="*/ 327240 w 2376360"/>
              <a:gd name="textAreaRight" fmla="*/ 1879920 w 2376360"/>
              <a:gd name="textAreaTop" fmla="*/ 130320 h 863640"/>
              <a:gd name="textAreaBottom" fmla="*/ 693360 h 863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Облако 10"/>
          <p:cNvSpPr/>
          <p:nvPr/>
        </p:nvSpPr>
        <p:spPr>
          <a:xfrm>
            <a:off x="4067280" y="5445000"/>
            <a:ext cx="2376360" cy="863640"/>
          </a:xfrm>
          <a:custGeom>
            <a:avLst/>
            <a:gdLst>
              <a:gd name="textAreaLeft" fmla="*/ 327240 w 2376360"/>
              <a:gd name="textAreaRight" fmla="*/ 1879920 w 2376360"/>
              <a:gd name="textAreaTop" fmla="*/ 130320 h 863640"/>
              <a:gd name="textAreaBottom" fmla="*/ 693360 h 863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Облако 11"/>
          <p:cNvSpPr/>
          <p:nvPr/>
        </p:nvSpPr>
        <p:spPr>
          <a:xfrm>
            <a:off x="3635280" y="4365720"/>
            <a:ext cx="2376720" cy="863640"/>
          </a:xfrm>
          <a:custGeom>
            <a:avLst/>
            <a:gdLst>
              <a:gd name="textAreaLeft" fmla="*/ 327600 w 2376720"/>
              <a:gd name="textAreaRight" fmla="*/ 1880280 w 2376720"/>
              <a:gd name="textAreaTop" fmla="*/ 130320 h 863640"/>
              <a:gd name="textAreaBottom" fmla="*/ 693360 h 863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Облако 12"/>
          <p:cNvSpPr/>
          <p:nvPr/>
        </p:nvSpPr>
        <p:spPr>
          <a:xfrm>
            <a:off x="1547640" y="5229360"/>
            <a:ext cx="2376720" cy="863640"/>
          </a:xfrm>
          <a:custGeom>
            <a:avLst/>
            <a:gdLst>
              <a:gd name="textAreaLeft" fmla="*/ 327600 w 2376720"/>
              <a:gd name="textAreaRight" fmla="*/ 1880280 w 2376720"/>
              <a:gd name="textAreaTop" fmla="*/ 130320 h 863640"/>
              <a:gd name="textAreaBottom" fmla="*/ 693360 h 8636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блако 13"/>
          <p:cNvSpPr/>
          <p:nvPr/>
        </p:nvSpPr>
        <p:spPr>
          <a:xfrm>
            <a:off x="5867280" y="2492280"/>
            <a:ext cx="2376720" cy="865440"/>
          </a:xfrm>
          <a:custGeom>
            <a:avLst/>
            <a:gdLst>
              <a:gd name="textAreaLeft" fmla="*/ 327600 w 2376720"/>
              <a:gd name="textAreaRight" fmla="*/ 1880280 w 2376720"/>
              <a:gd name="textAreaTop" fmla="*/ 130680 h 865440"/>
              <a:gd name="textAreaBottom" fmla="*/ 694800 h 865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6516720" y="278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квей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2340000" y="5300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ите ли в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4211640" y="4581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сер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948360" y="39337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исание эс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4500720" y="5732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блако 21"/>
          <p:cNvSpPr/>
          <p:nvPr/>
        </p:nvSpPr>
        <p:spPr>
          <a:xfrm>
            <a:off x="6084720" y="4653000"/>
            <a:ext cx="2880000" cy="1413000"/>
          </a:xfrm>
          <a:custGeom>
            <a:avLst/>
            <a:gdLst>
              <a:gd name="textAreaLeft" fmla="*/ 396720 w 2880000"/>
              <a:gd name="textAreaRight" fmla="*/ 2278440 w 2880000"/>
              <a:gd name="textAreaTop" fmla="*/ 213120 h 1413000"/>
              <a:gd name="textAreaBottom" fmla="*/ 1134360 h 1413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>
            <a:off x="6732720" y="5229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зина и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Чтение в «кружок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686520" y="112536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математ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6804000" y="10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3492360" y="1413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чт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364000" y="13413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к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3" descr="C:\Users\Ольга\Desktop\для през смысл чтения\человечек чит.jpg"/>
          <p:cNvPicPr/>
          <p:nvPr/>
        </p:nvPicPr>
        <p:blipFill>
          <a:blip r:embed="rId1"/>
          <a:stretch/>
        </p:blipFill>
        <p:spPr>
          <a:xfrm>
            <a:off x="684360" y="2852640"/>
            <a:ext cx="2763720" cy="276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Users\Ольга\Desktop\для през смысл чтения\человечек с вопр..jpg"/>
          <p:cNvPicPr/>
          <p:nvPr/>
        </p:nvPicPr>
        <p:blipFill>
          <a:blip r:embed="rId2"/>
          <a:stretch/>
        </p:blipFill>
        <p:spPr>
          <a:xfrm>
            <a:off x="5292720" y="2205000"/>
            <a:ext cx="3430440" cy="343080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право 8"/>
          <p:cNvSpPr/>
          <p:nvPr/>
        </p:nvSpPr>
        <p:spPr>
          <a:xfrm>
            <a:off x="3059280" y="2781360"/>
            <a:ext cx="2592360" cy="576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Стрелка вправо 9"/>
          <p:cNvSpPr/>
          <p:nvPr/>
        </p:nvSpPr>
        <p:spPr>
          <a:xfrm rot="10800000">
            <a:off x="2987280" y="5084280"/>
            <a:ext cx="2592360" cy="576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971640" y="242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5796000" y="242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ш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13"/>
          <p:cNvSpPr/>
          <p:nvPr/>
        </p:nvSpPr>
        <p:spPr>
          <a:xfrm>
            <a:off x="5724360" y="573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шив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1619280" y="566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7800" cy="17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Чтение с «остановками», чтение «про себя» с вопросами, чтение в пар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Ольга\Desktop\для през смысл чтения\чел вопрос.jpg"/>
          <p:cNvPicPr/>
          <p:nvPr/>
        </p:nvPicPr>
        <p:blipFill>
          <a:blip r:embed="rId1"/>
          <a:stretch/>
        </p:blipFill>
        <p:spPr>
          <a:xfrm>
            <a:off x="468360" y="2276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132000" y="242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От простого к сложно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C:\Users\Ольга\Desktop\для през смысл чтения\вопросы какие.jpg"/>
          <p:cNvPicPr/>
          <p:nvPr/>
        </p:nvPicPr>
        <p:blipFill>
          <a:blip r:embed="rId2"/>
          <a:stretch/>
        </p:blipFill>
        <p:spPr>
          <a:xfrm>
            <a:off x="2268360" y="3213000"/>
            <a:ext cx="57596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Ольга\Desktop\для през смысл чтения\мроре вопросов.jpg"/>
          <p:cNvPicPr/>
          <p:nvPr/>
        </p:nvPicPr>
        <p:blipFill>
          <a:blip r:embed="rId1"/>
          <a:stretch/>
        </p:blipFill>
        <p:spPr>
          <a:xfrm>
            <a:off x="1211400" y="260280"/>
            <a:ext cx="7489800" cy="5616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«Ассоциативный кус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Ольга\Desktop\для през смысл чтения\человечек книга.jpg"/>
          <p:cNvPicPr/>
          <p:nvPr/>
        </p:nvPicPr>
        <p:blipFill>
          <a:blip r:embed="rId1"/>
          <a:stretch/>
        </p:blipFill>
        <p:spPr>
          <a:xfrm>
            <a:off x="3108240" y="1557360"/>
            <a:ext cx="2881440" cy="2158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851280" y="3573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2228b"/>
                </a:solidFill>
                <a:latin typeface="Arial"/>
              </a:rPr>
              <a:t>кни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Стрелка вправо 4"/>
          <p:cNvSpPr/>
          <p:nvPr/>
        </p:nvSpPr>
        <p:spPr>
          <a:xfrm>
            <a:off x="5651640" y="1916280"/>
            <a:ext cx="1224000" cy="21744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Стрелка вправо 5"/>
          <p:cNvSpPr/>
          <p:nvPr/>
        </p:nvSpPr>
        <p:spPr>
          <a:xfrm>
            <a:off x="5796000" y="2924280"/>
            <a:ext cx="1297080" cy="2887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Стрелка вправо 6"/>
          <p:cNvSpPr/>
          <p:nvPr/>
        </p:nvSpPr>
        <p:spPr>
          <a:xfrm rot="8149800">
            <a:off x="1883880" y="3835440"/>
            <a:ext cx="1660680" cy="19512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7"/>
          <p:cNvSpPr/>
          <p:nvPr/>
        </p:nvSpPr>
        <p:spPr>
          <a:xfrm rot="2833800">
            <a:off x="5574960" y="4223880"/>
            <a:ext cx="1871640" cy="217800"/>
          </a:xfrm>
          <a:prstGeom prst="rightArrow">
            <a:avLst>
              <a:gd name="adj1" fmla="val 50000"/>
              <a:gd name="adj2" fmla="val 49929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трелка вправо 8"/>
          <p:cNvSpPr/>
          <p:nvPr/>
        </p:nvSpPr>
        <p:spPr>
          <a:xfrm rot="10800000">
            <a:off x="2410920" y="1989000"/>
            <a:ext cx="1297080" cy="21600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Стрелка вправо 9"/>
          <p:cNvSpPr/>
          <p:nvPr/>
        </p:nvSpPr>
        <p:spPr>
          <a:xfrm rot="10800000">
            <a:off x="1763640" y="2708280"/>
            <a:ext cx="1338480" cy="216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Стрелка вправо 10"/>
          <p:cNvSpPr/>
          <p:nvPr/>
        </p:nvSpPr>
        <p:spPr>
          <a:xfrm rot="5400000">
            <a:off x="3958560" y="4689360"/>
            <a:ext cx="1152720" cy="21564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84360" y="191628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мудр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250920" y="2708280"/>
            <a:ext cx="16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помощн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684360" y="4508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литера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3780000" y="5516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чит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6372360" y="5084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библиот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7236000" y="299736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мудрые мы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709308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духовная пищ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Users\Ольга\Desktop\для през смысл чтения\чел в очках.jpg"/>
          <p:cNvPicPr/>
          <p:nvPr/>
        </p:nvPicPr>
        <p:blipFill>
          <a:blip r:embed="rId1"/>
          <a:stretch/>
        </p:blipFill>
        <p:spPr>
          <a:xfrm>
            <a:off x="2484360" y="4076640"/>
            <a:ext cx="2363760" cy="2365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Создай свой </a:t>
            </a:r>
            <a:br>
              <a:rPr sz="4400"/>
            </a:b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«ассоциативный кус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611280" y="2708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прям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4859280" y="292428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прилагате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39640" y="3500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22228b"/>
                </a:solidFill>
                <a:latin typeface="Arial"/>
              </a:rPr>
              <a:t>субтроп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16360" y="3716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2228b"/>
                </a:solidFill>
                <a:latin typeface="Arial"/>
              </a:rPr>
              <a:t>Николай Нос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59280" y="4950000"/>
            <a:ext cx="44658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9973"/>
                </a:solidFill>
                <a:latin typeface="Arial"/>
              </a:rPr>
              <a:t>«Дерево знан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997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9973"/>
                </a:solidFill>
                <a:latin typeface="Arial"/>
              </a:rPr>
              <a:t>Клас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971640" y="155736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2228b"/>
                </a:solidFill>
                <a:latin typeface="Arial"/>
              </a:rPr>
              <a:t>Учитель дает ключевое слово или заголовок текста, ученики записывают вокруг него все возможные ассоциации, обозначая стрелочками смысловые связи между понят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22228b"/>
                </a:solidFill>
                <a:latin typeface="Arial"/>
              </a:rPr>
              <a:t>«Верно - неверно». «Верите ли вы?». «Данетк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582560" y="1557360"/>
            <a:ext cx="7561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Тупой угол –это угол, который нарисован тупым карандашо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Углы бывают остроумные и тупы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Бывает угол прям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Глагол отвечает на вопрос: Что дела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Чтобы проверить безударную гласную, нужно задать вопро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Экология –это наука о растения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Дельфин –это животн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Ганс Христиан Андерсен  написал басню «Мартышка и очки»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2228b"/>
                </a:solidFill>
                <a:latin typeface="Arial"/>
              </a:rPr>
              <a:t>Гадкий утенок превратился в лебед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06:45Z</dcterms:created>
  <dc:creator/>
  <dc:description/>
  <dc:language>en-US</dc:language>
  <cp:lastModifiedBy>user</cp:lastModifiedBy>
  <dcterms:modified xsi:type="dcterms:W3CDTF">2022-03-24T18:33:16Z</dcterms:modified>
  <cp:revision>64</cp:revision>
  <dc:subject/>
  <dc:title>Слайд 1</dc:title>
</cp:coreProperties>
</file>